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18D-700C-49A9-9C69-780D5D1B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992-AB35-4FAA-B19A-607AA52F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42E52-C195-40AC-8D91-6429292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FEBD2-5763-4D33-B8BE-A52F7935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37E12-A3AE-4464-A465-0C96BD9F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1086C-8B05-4D6C-8633-7D28BF49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E4D1-EFEB-4571-9993-63A0492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4AC18-5BB3-450D-9FFF-A837D2F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394D9-A94F-4602-8CA2-43F540A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E2BA5-1346-43A9-9E96-9C73B8BE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44CE2-ADD9-4544-BEC5-317E58E5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E0FFD-65C9-4934-9BBD-4FA5AD2C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889-F766-48B7-8500-93BC6B60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A2725-5822-495F-89A1-6D030090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D32BD-C26C-443B-900D-750D7790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8EB8F-93A9-45D4-875F-27D03219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9F0B0-2CAC-4C0A-8617-4698701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D6888-1106-495C-9E7B-501B1B62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F68FD-D097-4D42-B7B1-6A3D25F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6D41F-8AC8-4EBB-93D9-C1057BF5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E7D49-F016-47EC-9E97-BE629FC4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0945C-744F-4EE6-BEAF-1560206C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D611A-49C2-4208-B36F-C8BBF38C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9C4-94BE-4C45-9B02-17D50F90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322B3-4C37-4FF9-AB63-BBFA9DC7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A134C-528B-4434-807B-D8FDE4DB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2DF1-48D3-445F-B80F-0D4AD51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7B54A-00E6-4940-B06E-878EBE8B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3513B-09EE-4D15-A703-B9759353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8FF7A-D3E8-4B06-A0C4-CEB5C8B9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BBF8D-CD22-4A5A-8114-23F35AF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E02CF-9FC0-48EC-9652-8F9963A7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F2446-C5EA-46CD-A0B1-6F34383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DEEC3-1998-45D5-8B79-950E3A12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43FD-598D-4819-AFBA-9B5FC4EF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82706-123B-4A94-9C59-8DEBDF3A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6DF46-23C9-4EEB-B9F2-065BD88D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88619-C236-4ED7-9915-1BF6DCF8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EF2B-5091-4C4E-9F8E-56C93932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54C1-BC83-4A5F-8DEC-EB0E0FCC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4BFB-5732-4778-B10E-7491656E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2018-E67A-4122-9181-93C0D2AB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842B-3A97-493D-8E8B-C426FE79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55D1-45AE-47EE-805B-41C41464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386-4A73-4533-9BE6-D0E186F4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8D00-8E43-41BA-9F08-E958A27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9B05-1C33-46A4-8A1B-A7D8914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4D77-5456-448D-BC11-E978CE39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8B2C-E492-46A8-947B-5C61DED2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EEA1-DAD3-4968-82E8-8B28D1A5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A374-34FB-41A3-BD3C-B91C22F1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F535-2144-4DD3-9126-F666B588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10E8-82E3-4F15-80CC-0E7DE243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3840-715C-498E-83C8-101A622B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DF0A-79FE-4BF8-8C5D-5FD056EB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82A-875B-4A54-A4F4-E81F3484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8DE1-61CA-45C3-BD59-532B20E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95E8-CFB2-407D-ADB0-A656F6C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4D65-9CE8-4D0E-86C0-A0CB498F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7C5E-E17F-4389-8913-74FDCB3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05B2-5D96-46D4-8EC4-9476C18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AACE-8E2A-4B24-938C-01E5235B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27D4-940B-4CED-88E8-CBF668B3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B9CD-8268-4330-978C-1D633FC9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35B2E-D185-4727-A8C5-E1BA3DE4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AFB1B-30D4-4317-B191-A9A78E0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3B3-0E16-49D1-B805-88294D78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A7E3-9B78-4E15-AA73-264C5A51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050A7-E13C-4621-A7F5-82F03AA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4FCF-206D-45A5-98B9-4C34C34D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AF13-0883-46C0-85F4-DAAC6A6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1110-AADB-477C-BF2A-2719E1F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FF68A-73A3-4498-ACCF-03D5C351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FA2E-FD24-4625-8578-0A3592E9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E120-35AC-4538-A263-53BF590D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23D1-3D20-4825-B597-4F119EB4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5115F-5B40-4439-B92A-20042DBA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4AE-2611-42BD-AB1E-73468F29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AFE99-C7AB-4017-A9C8-BDE4AB00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6B7A2-A2EB-421F-B2B5-70A2FF4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9B541-467C-4DD7-8607-F0EDD43A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556C-C506-460C-8041-F6C2CF21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C4F5A-7ACF-43F4-8A99-530A68C7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14ADF-CB32-47FD-AF44-46AEC96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A0AC-00CF-46D6-A7ED-21DFD49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9842-D7F5-43A2-A464-A4EFAB0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6A197-F579-4751-A0E5-8B874E2F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2290-1856-4EFE-BB3A-532A1A38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F2C-67DE-4077-A6C8-A420A9F5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9D77-C7CD-40A3-AE48-E27BF33E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A90A-B0BD-4670-A853-73671D09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08FC-EEAB-48C0-951D-4BC78BF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326C1-727A-444A-9D74-785982CC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2B9E-9F1B-4ADC-A0D3-B856980E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04F40-0F12-4703-B9D2-586B349B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246D-7627-458B-9685-6A454431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E0C07-D96C-4775-9EDC-5DEE19E1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7A74-83E3-45C4-9F16-D3A9302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1543B-2E93-48E9-9F60-C161B641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A15-7BA6-4BA3-8251-F2B18E7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1BFC8-63EE-44F6-8B36-80C3A2D9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E57FE-E462-4835-823D-A6B4428C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BABAC-8EB5-4EEF-8407-DB4D2FA0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8A14-050F-49AC-9B70-80E3D5F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A09E4-E87A-482E-A70A-0F50E57D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4A42C-E49B-4BEC-9D0D-A5BF38C5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49075-8B4C-4F4D-AE48-1C78D2BE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9777-C41C-4E65-9693-4DFBA87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A60A5-4A77-43E8-82AE-1C5B1349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A6289-9369-42B4-9235-1FE759E8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0B9-4D81-434B-85A2-6D8B7B2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B80B4-A830-40D4-AAC0-D536EBC3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72A29-E3BB-4D0A-B3D2-52C361C7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F8A88-C7A5-44F0-AB86-0FAFD3AE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6E150-F8C6-4119-84D6-A7D85D51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4F4CF-C202-4BAC-BBF9-A09C2745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A2956-DED4-4A2A-95B9-684FADA4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60B4D-4548-4808-A6E3-796D7817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E5B50-F0C2-4588-B87F-73FE47E7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0EE8E-6292-4404-AD2C-F020BA2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F7B64-7386-4B47-B793-31DBB947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540-E0D2-42B8-BAC5-5C89A166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9883E-4644-4DEE-90BA-12C92CF3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646DF-1A83-473F-9D43-0E4FE31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CB7B-AF82-4B53-A302-D06FBA4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4AB8C-B96A-4CB4-83D5-6056B58C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DEAC0-1FD6-48BE-91A1-C7CC452E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377AB-C531-406D-9ED6-99051A86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BD287-8E4D-4236-908B-08EB15E0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94597-BB9D-4444-B88D-570216B3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FCE83-DEF8-4C23-B240-9ECB1B3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E4345-AEB6-4DE1-9CBE-F8934EF5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2A9-D8B7-495D-A820-A4789F208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B95-B86E-4DE2-87AC-88D5E296D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2857-36BF-421A-85E6-5E9D9F09F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4022-2589-4E9A-BBB5-685BCFF94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648A-8992-4656-9E11-21898ED81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253-F9D2-41FD-AA66-28ABF3716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4E04-75F8-42E6-B8F3-4A61072B2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A246-CE4E-48BD-B7EE-350056DD3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D619-514B-4EAC-94B8-4C8C15A6F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F6F4-2AB9-41DF-A5BD-4523EBF77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2611-B842-4CAB-BC62-8A264F943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2"/>
          <p:cNvSpPr/>
          <p:nvPr/>
        </p:nvSpPr>
        <p:spPr>
          <a:xfrm>
            <a:off x="1344600" y="43657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5"/>
          <p:cNvSpPr txBox="1"/>
          <p:nvPr/>
        </p:nvSpPr>
        <p:spPr>
          <a:xfrm>
            <a:off x="1763640" y="1628640"/>
            <a:ext cx="554508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z c 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3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E3AE-7719-46A3-80AC-CCEFB0D09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wall03-1024"/>
          <p:cNvPicPr/>
          <p:nvPr/>
        </p:nvPicPr>
        <p:blipFill>
          <a:blip r:embed="rId2"/>
          <a:stretch/>
        </p:blipFill>
        <p:spPr>
          <a:xfrm>
            <a:off x="-324000" y="-81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1908000" y="2060640"/>
            <a:ext cx="8950680" cy="34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z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67D7-4C4C-459A-B0C1-AD6B0E33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4"/>
          <p:cNvSpPr txBox="1"/>
          <p:nvPr/>
        </p:nvSpPr>
        <p:spPr>
          <a:xfrm>
            <a:off x="324000" y="1197000"/>
            <a:ext cx="7920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zī zí zǐ z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275F-2360-479E-85FD-3E9BFF22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9"/>
          <p:cNvSpPr/>
          <p:nvPr/>
        </p:nvSpPr>
        <p:spPr>
          <a:xfrm>
            <a:off x="1187280" y="429264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幼圆"/>
                <a:ea typeface="幼圆"/>
              </a:rPr>
              <a:t>半个圆圈</a:t>
            </a:r>
            <a:r>
              <a:rPr b="1" lang="en-US" sz="6600" spc="-1" strike="noStrike">
                <a:solidFill>
                  <a:srgbClr val="0033cc"/>
                </a:solidFill>
                <a:latin typeface="zypyyb"/>
                <a:ea typeface="zypyyb"/>
              </a:rPr>
              <a:t>c c c</a:t>
            </a:r>
            <a:r>
              <a:rPr b="0" lang="en-US" sz="6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1" descr="MDL-ZXM-1081-1"/>
          <p:cNvPicPr/>
          <p:nvPr/>
        </p:nvPicPr>
        <p:blipFill>
          <a:blip r:embed="rId3"/>
          <a:srcRect l="7433" t="20491" r="10595" b="18028"/>
          <a:stretch/>
        </p:blipFill>
        <p:spPr>
          <a:xfrm>
            <a:off x="4643280" y="126828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51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4C2D-FFA5-4AE8-9585-6DEB5059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cɑ  ce  cu  c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B932-5588-4D5E-A2D9-66432A391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835280" y="2133720"/>
            <a:ext cx="95979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c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B6FC-D63B-4C94-BD85-7D287D980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4"/>
          <p:cNvSpPr txBox="1"/>
          <p:nvPr/>
        </p:nvSpPr>
        <p:spPr>
          <a:xfrm>
            <a:off x="457200" y="2205000"/>
            <a:ext cx="8229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cī cí cǐ c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2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C9F-37FB-45B8-9BE7-A0849C29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3"/>
          <p:cNvPicPr/>
          <p:nvPr/>
        </p:nvPicPr>
        <p:blipFill>
          <a:blip r:embed="rId2"/>
          <a:stretch/>
        </p:blipFill>
        <p:spPr>
          <a:xfrm>
            <a:off x="4572000" y="476280"/>
            <a:ext cx="3651120" cy="36003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9"/>
          <p:cNvSpPr/>
          <p:nvPr/>
        </p:nvSpPr>
        <p:spPr>
          <a:xfrm>
            <a:off x="1619280" y="429264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半个 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8 </a:t>
            </a: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字 </a:t>
            </a:r>
            <a:r>
              <a:rPr b="1" lang="en-US" sz="5400" spc="-1" strike="noStrike">
                <a:solidFill>
                  <a:srgbClr val="660033"/>
                </a:solidFill>
                <a:latin typeface="zypyyb"/>
                <a:ea typeface="zypyyb"/>
              </a:rPr>
              <a:t>s s s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0" descr="2010_3_4_14_38_8_3226"/>
          <p:cNvPicPr/>
          <p:nvPr/>
        </p:nvPicPr>
        <p:blipFill>
          <a:blip r:embed="rId3"/>
          <a:stretch/>
        </p:blipFill>
        <p:spPr>
          <a:xfrm>
            <a:off x="0" y="0"/>
            <a:ext cx="3719520" cy="371952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AFAB-5F33-4B17-9DB5-2D6994383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dj088"/>
          <p:cNvPicPr/>
          <p:nvPr/>
        </p:nvPicPr>
        <p:blipFill>
          <a:blip r:embed="rId2"/>
          <a:stretch/>
        </p:blipFill>
        <p:spPr>
          <a:xfrm>
            <a:off x="5724360" y="981000"/>
            <a:ext cx="1873440" cy="2305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2262686_193656038_2"/>
          <p:cNvPicPr/>
          <p:nvPr/>
        </p:nvPicPr>
        <p:blipFill>
          <a:blip r:embed="rId3"/>
          <a:stretch/>
        </p:blipFill>
        <p:spPr>
          <a:xfrm>
            <a:off x="0" y="1341360"/>
            <a:ext cx="1884240" cy="2016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200811875512522_2"/>
          <p:cNvPicPr/>
          <p:nvPr/>
        </p:nvPicPr>
        <p:blipFill>
          <a:blip r:embed="rId4">
            <a:lum contrast="18000"/>
          </a:blip>
          <a:srcRect l="47027" t="5759" r="0" b="22353"/>
          <a:stretch/>
        </p:blipFill>
        <p:spPr>
          <a:xfrm>
            <a:off x="3780000" y="1484280"/>
            <a:ext cx="1782720" cy="1873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200932125940862_2"/>
          <p:cNvPicPr/>
          <p:nvPr/>
        </p:nvPicPr>
        <p:blipFill>
          <a:blip r:embed="rId5">
            <a:lum contrast="24000"/>
          </a:blip>
          <a:srcRect l="11118" t="21538" r="12471" b="13860"/>
          <a:stretch/>
        </p:blipFill>
        <p:spPr>
          <a:xfrm>
            <a:off x="1908000" y="1557360"/>
            <a:ext cx="1872000" cy="1727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ɑ   se   su   s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9970-E1ED-4386-9289-9C3E03F50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340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4661bc1b9f36d0e0832f18b900c375b6"/>
          <p:cNvPicPr/>
          <p:nvPr/>
        </p:nvPicPr>
        <p:blipFill>
          <a:blip r:embed="rId2"/>
          <a:srcRect l="0" t="0" r="8479" b="15055"/>
          <a:stretch/>
        </p:blipFill>
        <p:spPr>
          <a:xfrm>
            <a:off x="0" y="-63036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546" name="WordArt 4"/>
          <p:cNvSpPr txBox="1"/>
          <p:nvPr/>
        </p:nvSpPr>
        <p:spPr>
          <a:xfrm>
            <a:off x="539640" y="404640"/>
            <a:ext cx="612000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s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4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E44A-00C8-44D8-9D77-D22572110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4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sī sí sǐ s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570D-8F1D-4C26-ABD0-C727DCB2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2133"/>
          <p:cNvPicPr/>
          <p:nvPr/>
        </p:nvPicPr>
        <p:blipFill>
          <a:blip r:embed="rId3"/>
          <a:stretch/>
        </p:blipFill>
        <p:spPr>
          <a:xfrm>
            <a:off x="1116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0" descr="12S314625250-21V5"/>
          <p:cNvPicPr/>
          <p:nvPr/>
        </p:nvPicPr>
        <p:blipFill>
          <a:blip r:embed="rId4"/>
          <a:stretch/>
        </p:blipFill>
        <p:spPr>
          <a:xfrm>
            <a:off x="1908000" y="1341360"/>
            <a:ext cx="4681800" cy="468144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3274920" y="1773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f0076"/>
                </a:solidFill>
                <a:latin typeface="Arial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564000" y="2349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348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3564000" y="191628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3780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99"/>
                </a:solidFill>
                <a:latin typeface="Arial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3995640" y="2205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995640" y="2421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4211640" y="2349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66"/>
                </a:solidFill>
                <a:latin typeface="Arial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995640" y="2060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66cc"/>
                </a:solidFill>
                <a:latin typeface="Arial"/>
              </a:rPr>
              <a:t>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4211640" y="2276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3300"/>
                </a:solidFill>
                <a:latin typeface="Arial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4427640" y="2852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3635280" y="213372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c1c1c"/>
                </a:solidFill>
                <a:latin typeface="Arial"/>
              </a:rPr>
              <a:t>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4067280" y="2060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800080"/>
                </a:solidFill>
                <a:latin typeface="Arial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572000" y="2637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3924360" y="220500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B46-9F7A-4C0C-8252-791FA5D8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042920" y="90792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妞妞写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4574160" y="76500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4292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儿吐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427640" y="1625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042920" y="285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半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4430160" y="270828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1042920" y="371628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一个半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4503240" y="357336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CC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16000" y="45813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像个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4574160" y="450864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15"/>
          <p:cNvSpPr txBox="1"/>
          <p:nvPr/>
        </p:nvSpPr>
        <p:spPr>
          <a:xfrm>
            <a:off x="2124000" y="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猜谜语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44E1-E235-4B9B-AD57-25038EDE2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46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899640" y="404640"/>
            <a:ext cx="6551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zz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圆半圆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c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个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字就是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2_1"/>
          <p:cNvPicPr/>
          <p:nvPr/>
        </p:nvPicPr>
        <p:blipFill>
          <a:blip r:embed="rId3"/>
          <a:stretch/>
        </p:blipFill>
        <p:spPr>
          <a:xfrm>
            <a:off x="7667640" y="5373720"/>
            <a:ext cx="1152360" cy="1233360"/>
          </a:xfrm>
          <a:prstGeom prst="rect">
            <a:avLst/>
          </a:prstGeom>
          <a:ln w="0">
            <a:noFill/>
          </a:ln>
        </p:spPr>
      </p:pic>
      <p:sp>
        <p:nvSpPr>
          <p:cNvPr id="568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D058-A7F3-45B8-A118-D1B983074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48360" y="1238040"/>
            <a:ext cx="251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572" name="Line 4"/>
          <p:cNvSpPr/>
          <p:nvPr/>
        </p:nvSpPr>
        <p:spPr>
          <a:xfrm>
            <a:off x="5292720" y="17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5292720" y="2708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5364000" y="76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292720" y="37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B0B4-D935-4971-862F-E5116D0DC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5076720" y="1600200"/>
            <a:ext cx="15112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79" name="Line 5"/>
          <p:cNvSpPr/>
          <p:nvPr/>
        </p:nvSpPr>
        <p:spPr>
          <a:xfrm>
            <a:off x="4572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572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4572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4572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1114560" y="5300640"/>
            <a:ext cx="72738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4B01-3A35-4D9A-822C-702720FE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72840" y="1600200"/>
            <a:ext cx="2243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3"/>
          <p:cNvPicPr/>
          <p:nvPr/>
        </p:nvPicPr>
        <p:blipFill>
          <a:blip r:embed="rId2"/>
          <a:stretch/>
        </p:blipFill>
        <p:spPr>
          <a:xfrm>
            <a:off x="5076720" y="333360"/>
            <a:ext cx="3651480" cy="3600360"/>
          </a:xfrm>
          <a:prstGeom prst="rect">
            <a:avLst/>
          </a:prstGeom>
          <a:ln w="0">
            <a:noFill/>
          </a:ln>
        </p:spPr>
      </p:pic>
      <p:sp>
        <p:nvSpPr>
          <p:cNvPr id="588" name="Line 5"/>
          <p:cNvSpPr/>
          <p:nvPr/>
        </p:nvSpPr>
        <p:spPr>
          <a:xfrm>
            <a:off x="108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08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108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108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1AAF-C7F8-4149-8A47-1FC5AA14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900000" y="981000"/>
            <a:ext cx="48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     c     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5" name="WordArt 6"/>
          <p:cNvSpPr txBox="1"/>
          <p:nvPr/>
        </p:nvSpPr>
        <p:spPr>
          <a:xfrm>
            <a:off x="539640" y="3789360"/>
            <a:ext cx="504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i   ci   si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3061-0B0D-4731-B66D-01BC110D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4"/>
          <p:cNvSpPr txBox="1"/>
          <p:nvPr/>
        </p:nvSpPr>
        <p:spPr>
          <a:xfrm>
            <a:off x="1403280" y="2349360"/>
            <a:ext cx="62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cī cí cǐ c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99" name="WordArt 5"/>
          <p:cNvSpPr txBox="1"/>
          <p:nvPr/>
        </p:nvSpPr>
        <p:spPr>
          <a:xfrm>
            <a:off x="1403280" y="333360"/>
            <a:ext cx="612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黑体"/>
              </a:rPr>
              <a:t>zī zí zǐ z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黑体"/>
              <a:ea typeface="黑体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1332000" y="4292640"/>
            <a:ext cx="6264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黑体"/>
              </a:rPr>
              <a:t>sī sí sǐ s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黑体"/>
              <a:ea typeface="黑体"/>
            </a:endParaRPr>
          </a:p>
        </p:txBody>
      </p:sp>
      <p:sp>
        <p:nvSpPr>
          <p:cNvPr id="601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8DA2-6BC6-4C65-B33A-2F41B8C4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5" descr="IMAG1238549786024439"/>
          <p:cNvPicPr/>
          <p:nvPr/>
        </p:nvPicPr>
        <p:blipFill>
          <a:blip r:embed="rId2"/>
          <a:srcRect l="0" t="20117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0" y="764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sī jī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cí yǔ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zǐ sè  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tuō mǎ s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_1"/>
          <p:cNvPicPr/>
          <p:nvPr/>
        </p:nvPicPr>
        <p:blipFill>
          <a:blip r:embed="rId3"/>
          <a:stretch/>
        </p:blipFill>
        <p:spPr>
          <a:xfrm>
            <a:off x="8059680" y="5697360"/>
            <a:ext cx="1084320" cy="1160640"/>
          </a:xfrm>
          <a:prstGeom prst="rect">
            <a:avLst/>
          </a:prstGeom>
          <a:ln w="0">
            <a:noFill/>
          </a:ln>
        </p:spPr>
      </p:pic>
      <p:sp>
        <p:nvSpPr>
          <p:cNvPr id="60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ED27-81E6-45F6-BCA1-5899289C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5" descr="46_1286934152Z7Vg"/>
          <p:cNvPicPr/>
          <p:nvPr/>
        </p:nvPicPr>
        <p:blipFill>
          <a:blip r:embed="rId2"/>
          <a:stretch/>
        </p:blipFill>
        <p:spPr>
          <a:xfrm>
            <a:off x="6480" y="3240"/>
            <a:ext cx="9099360" cy="6823080"/>
          </a:xfrm>
          <a:prstGeom prst="rect">
            <a:avLst/>
          </a:prstGeom>
          <a:ln w="0">
            <a:noFill/>
          </a:ln>
        </p:spPr>
      </p:pic>
      <p:sp>
        <p:nvSpPr>
          <p:cNvPr id="478" name="WordArt 4"/>
          <p:cNvSpPr txBox="1"/>
          <p:nvPr/>
        </p:nvSpPr>
        <p:spPr>
          <a:xfrm>
            <a:off x="2195640" y="-17136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你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6E58-0E4D-4E11-8933-A689639AE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434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48360" y="-6075000"/>
            <a:ext cx="2519280" cy="160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5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3" name="Picture 4" descr="1"/>
          <p:cNvPicPr/>
          <p:nvPr/>
        </p:nvPicPr>
        <p:blipFill>
          <a:blip r:embed="rId2"/>
          <a:stretch/>
        </p:blipFill>
        <p:spPr>
          <a:xfrm>
            <a:off x="-25236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4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像个小２ 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z z z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0" descr="f704bdfe50255cb9b901a0f7"/>
          <p:cNvPicPr/>
          <p:nvPr/>
        </p:nvPicPr>
        <p:blipFill>
          <a:blip r:embed="rId3"/>
          <a:stretch/>
        </p:blipFill>
        <p:spPr>
          <a:xfrm>
            <a:off x="4643280" y="0"/>
            <a:ext cx="3810240" cy="3314880"/>
          </a:xfrm>
          <a:prstGeom prst="rect">
            <a:avLst/>
          </a:prstGeom>
          <a:ln w="0">
            <a:noFill/>
          </a:ln>
        </p:spPr>
      </p:pic>
      <p:sp>
        <p:nvSpPr>
          <p:cNvPr id="48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A269-FBFC-4C2E-ABA3-A4894533F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97440" y="1341360"/>
            <a:ext cx="167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z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141800" y="3357720"/>
            <a:ext cx="19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044360" y="3284640"/>
            <a:ext cx="13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173240" y="1143000"/>
            <a:ext cx="145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2888-124B-493D-B2A8-6A62E7381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639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ā  zá   zǎ  z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C201-8A4E-475C-836A-1DCC7936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ē  zé  zě  z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442F-6D53-48BF-9E86-86D9BE790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ū  zú   zǔ  z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1DB3-564C-4A58-A15A-D10BF842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zuō  zuó  zuǒ  z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85AC-2707-4D2B-8363-AFB77C51C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15:40Z</dcterms:created>
  <dc:creator/>
  <dc:description/>
  <cp:keywords/>
  <dc:language>en-US</dc:language>
  <cp:lastModifiedBy>User</cp:lastModifiedBy>
  <dcterms:modified xsi:type="dcterms:W3CDTF">2016-10-05T12:47:28Z</dcterms:modified>
  <cp:revision>57</cp:revision>
  <dc:subject/>
  <dc:title>幻灯片 1</dc:title>
</cp:coreProperties>
</file>